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A7A-CFAE-457B-9DB1-AA865668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F56-D0C0-4A76-B637-A140A29E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846-97CB-4BEB-A0CF-C4DD3836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AAB-56AB-4DD2-8E62-6FD2F7B4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513-863D-4925-BE75-0306BE7D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EA1-CBF3-4E91-A376-BE6AF92F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198-268D-4541-8501-C3416FCA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9D5-D9CF-4F51-AAA0-5195F159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FA4-8A68-499F-937A-98E87FF1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3AF-F3CD-4747-BBCE-7214F504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657-9DF6-4965-8AC0-525E1FE4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6F8-B7B6-4391-B7CB-86F1FF8C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93D0-04AC-410C-9BD0-D9338B490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e llamo _______   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Clase 801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5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11: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do empiezan tus cl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2d050"/>
                </a:solidFill>
                <a:latin typeface="Arial"/>
              </a:rPr>
              <a:t>L.O: to recall the structure and use of Stem-changing verbs</a:t>
            </a:r>
            <a:r>
              <a:rPr b="0" lang="es-ES_tradnl" sz="28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I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3"/>
          <p:cNvSpPr/>
          <p:nvPr/>
        </p:nvSpPr>
        <p:spPr>
          <a:xfrm>
            <a:off x="4876920" y="30481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5"/>
          <p:cNvSpPr/>
          <p:nvPr/>
        </p:nvSpPr>
        <p:spPr>
          <a:xfrm>
            <a:off x="70102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6"/>
          <p:cNvSpPr/>
          <p:nvPr/>
        </p:nvSpPr>
        <p:spPr>
          <a:xfrm flipV="1">
            <a:off x="5867280" y="2666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7086600" y="5029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70102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2819520" y="4114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00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2666880" y="5029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2743200" y="6172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7391520" y="4952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7238880" y="3809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9"/>
          <p:cNvSpPr/>
          <p:nvPr/>
        </p:nvSpPr>
        <p:spPr>
          <a:xfrm>
            <a:off x="1447920" y="4038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73915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1"/>
          <p:cNvSpPr/>
          <p:nvPr/>
        </p:nvSpPr>
        <p:spPr>
          <a:xfrm>
            <a:off x="5105520" y="2286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jug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12952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b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4" descr="thumbnail"/>
          <p:cNvPicPr/>
          <p:nvPr/>
        </p:nvPicPr>
        <p:blipFill>
          <a:blip r:embed="rId1"/>
          <a:stretch/>
        </p:blipFill>
        <p:spPr>
          <a:xfrm>
            <a:off x="4267080" y="3200400"/>
            <a:ext cx="2835360" cy="3648240"/>
          </a:xfrm>
          <a:prstGeom prst="rect">
            <a:avLst/>
          </a:prstGeom>
          <a:ln w="0">
            <a:noFill/>
          </a:ln>
        </p:spPr>
      </p:pic>
      <p:sp>
        <p:nvSpPr>
          <p:cNvPr id="60" name="Line 35"/>
          <p:cNvSpPr/>
          <p:nvPr/>
        </p:nvSpPr>
        <p:spPr>
          <a:xfrm>
            <a:off x="48769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6"/>
          <p:cNvSpPr/>
          <p:nvPr/>
        </p:nvSpPr>
        <p:spPr>
          <a:xfrm>
            <a:off x="228600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H="1">
            <a:off x="419076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 flipH="1" flipV="1">
            <a:off x="3200400" y="4343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 flipH="1">
            <a:off x="3048120" y="502920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0"/>
          <p:cNvSpPr/>
          <p:nvPr/>
        </p:nvSpPr>
        <p:spPr>
          <a:xfrm>
            <a:off x="6095880" y="5334120"/>
            <a:ext cx="38124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1"/>
          <p:cNvSpPr/>
          <p:nvPr/>
        </p:nvSpPr>
        <p:spPr>
          <a:xfrm flipV="1">
            <a:off x="6477120" y="52574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4343400" y="6248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3"/>
          <p:cNvSpPr/>
          <p:nvPr/>
        </p:nvSpPr>
        <p:spPr>
          <a:xfrm flipH="1">
            <a:off x="4647960" y="59436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7086600" y="5943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5"/>
          <p:cNvSpPr/>
          <p:nvPr/>
        </p:nvSpPr>
        <p:spPr>
          <a:xfrm flipV="1">
            <a:off x="6324480" y="61722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 flipV="1">
            <a:off x="6324480" y="40384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23623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El equ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429000" y="2362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6324480" y="636480"/>
            <a:ext cx="2667240" cy="12114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6553080" y="16765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port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6668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espec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"/>
          <p:cNvPicPr/>
          <p:nvPr/>
        </p:nvPicPr>
        <p:blipFill>
          <a:blip r:embed="rId2"/>
          <a:stretch/>
        </p:blipFill>
        <p:spPr>
          <a:xfrm>
            <a:off x="5991120" y="3581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5562720" y="55627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tablero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5562720" y="60199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mar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 flipH="1" flipV="1">
            <a:off x="8153280" y="3352680"/>
            <a:ext cx="7632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7391520" y="28954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t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9" descr="thumbnail"/>
          <p:cNvPicPr/>
          <p:nvPr/>
        </p:nvPicPr>
        <p:blipFill>
          <a:blip r:embed="rId3"/>
          <a:stretch/>
        </p:blipFill>
        <p:spPr>
          <a:xfrm>
            <a:off x="152280" y="152280"/>
            <a:ext cx="3124440" cy="222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thumbnail"/>
          <p:cNvPicPr/>
          <p:nvPr/>
        </p:nvPicPr>
        <p:blipFill>
          <a:blip r:embed="rId4"/>
          <a:stretch/>
        </p:blipFill>
        <p:spPr>
          <a:xfrm>
            <a:off x="3429000" y="484200"/>
            <a:ext cx="2705040" cy="183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thumbnail"/>
          <p:cNvPicPr/>
          <p:nvPr/>
        </p:nvPicPr>
        <p:blipFill>
          <a:blip r:embed="rId5"/>
          <a:stretch/>
        </p:blipFill>
        <p:spPr>
          <a:xfrm>
            <a:off x="2895480" y="373392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thumbnail"/>
          <p:cNvPicPr/>
          <p:nvPr/>
        </p:nvPicPr>
        <p:blipFill>
          <a:blip r:embed="rId6"/>
          <a:stretch/>
        </p:blipFill>
        <p:spPr>
          <a:xfrm>
            <a:off x="228600" y="3124080"/>
            <a:ext cx="273384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6"/>
          <p:cNvSpPr/>
          <p:nvPr/>
        </p:nvSpPr>
        <p:spPr>
          <a:xfrm>
            <a:off x="533520" y="5638680"/>
            <a:ext cx="2057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por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57150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espec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 de la “Bot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-changing verbs are also known as “BOOT”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why; conjugate the ver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enza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beg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3200" y="4038480"/>
            <a:ext cx="1676520" cy="4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nz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761200" y="4449600"/>
            <a:ext cx="1656000" cy="4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nz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755080" y="4876920"/>
            <a:ext cx="1790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z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653080" y="39625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enz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652360" y="44197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comenz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760080" y="4876920"/>
            <a:ext cx="161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515840" y="4876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279680" y="4876920"/>
            <a:ext cx="1890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z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819520" y="53341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76720" y="53341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4"/>
          <p:cNvSpPr/>
          <p:nvPr/>
        </p:nvSpPr>
        <p:spPr>
          <a:xfrm>
            <a:off x="2286000" y="3581280"/>
            <a:ext cx="3809880" cy="2667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03120" y="33526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…..it’s a BOO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62480" y="624852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ONLY CHANGE WHAT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SID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HE BOO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Y IT AGAI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d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(to be able 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uga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(to pla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23840" y="27432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461240" y="1905120"/>
            <a:ext cx="1280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477800" y="2362320"/>
            <a:ext cx="12625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477440" y="2819520"/>
            <a:ext cx="12643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193280" y="19051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192920" y="23623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031360" y="2743200"/>
            <a:ext cx="1279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668680" y="2819520"/>
            <a:ext cx="13647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447920" y="32767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447920" y="32767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823840" y="49528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524240" y="4114800"/>
            <a:ext cx="133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1526400" y="4572000"/>
            <a:ext cx="13143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524600" y="5029200"/>
            <a:ext cx="13161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4345920" y="41148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345200" y="4572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08040" y="4952880"/>
            <a:ext cx="1245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2821320" y="5029200"/>
            <a:ext cx="1331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1523880" y="5394240"/>
            <a:ext cx="2667240" cy="1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1523880" y="5410080"/>
            <a:ext cx="5335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e mor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280" y="914400"/>
          <a:ext cx="6934320" cy="2590920"/>
        </p:xfrm>
        <a:graphic>
          <a:graphicData uri="http://schemas.openxmlformats.org/drawingml/2006/table">
            <a:tbl>
              <a:tblPr/>
              <a:tblGrid>
                <a:gridCol w="1206720"/>
                <a:gridCol w="1807920"/>
                <a:gridCol w="2065320"/>
                <a:gridCol w="1854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tender 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to understan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7"/>
          <p:cNvSpPr/>
          <p:nvPr/>
        </p:nvSpPr>
        <p:spPr>
          <a:xfrm>
            <a:off x="1371600" y="1614600"/>
            <a:ext cx="17524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371600" y="2392200"/>
            <a:ext cx="1905120" cy="505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Ent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n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09880"/>
            <a:ext cx="18288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5105520" y="16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ntend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5334120" y="2316240"/>
            <a:ext cx="1600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Entendé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181480" y="2909880"/>
            <a:ext cx="19814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1371600" y="2071800"/>
            <a:ext cx="1752480" cy="36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1523880" y="2773440"/>
            <a:ext cx="1600200" cy="27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3048120" y="2909880"/>
            <a:ext cx="2057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nd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2133720" y="3429000"/>
            <a:ext cx="304776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7"/>
          <p:cNvSpPr/>
          <p:nvPr/>
        </p:nvSpPr>
        <p:spPr>
          <a:xfrm>
            <a:off x="1371600" y="3429000"/>
            <a:ext cx="7621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7652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800"/>
                <a:gridCol w="181908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over 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to mo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62"/>
          <p:cNvSpPr/>
          <p:nvPr/>
        </p:nvSpPr>
        <p:spPr>
          <a:xfrm>
            <a:off x="2895480" y="44956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3"/>
          <p:cNvSpPr/>
          <p:nvPr/>
        </p:nvSpPr>
        <p:spPr>
          <a:xfrm>
            <a:off x="2895480" y="4952880"/>
            <a:ext cx="16002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4"/>
          <p:cNvSpPr/>
          <p:nvPr/>
        </p:nvSpPr>
        <p:spPr>
          <a:xfrm>
            <a:off x="2895480" y="5195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5"/>
          <p:cNvSpPr/>
          <p:nvPr/>
        </p:nvSpPr>
        <p:spPr>
          <a:xfrm>
            <a:off x="2895480" y="5668920"/>
            <a:ext cx="1600200" cy="27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6"/>
          <p:cNvSpPr/>
          <p:nvPr/>
        </p:nvSpPr>
        <p:spPr>
          <a:xfrm>
            <a:off x="2895480" y="58672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7"/>
          <p:cNvSpPr/>
          <p:nvPr/>
        </p:nvSpPr>
        <p:spPr>
          <a:xfrm>
            <a:off x="6400800" y="4510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ov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8"/>
          <p:cNvSpPr/>
          <p:nvPr/>
        </p:nvSpPr>
        <p:spPr>
          <a:xfrm>
            <a:off x="6477120" y="51958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ov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9"/>
          <p:cNvSpPr/>
          <p:nvPr/>
        </p:nvSpPr>
        <p:spPr>
          <a:xfrm>
            <a:off x="6477120" y="58672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0"/>
          <p:cNvSpPr/>
          <p:nvPr/>
        </p:nvSpPr>
        <p:spPr>
          <a:xfrm>
            <a:off x="4495680" y="58672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1"/>
          <p:cNvSpPr/>
          <p:nvPr/>
        </p:nvSpPr>
        <p:spPr>
          <a:xfrm>
            <a:off x="3429000" y="638496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2"/>
          <p:cNvSpPr/>
          <p:nvPr/>
        </p:nvSpPr>
        <p:spPr>
          <a:xfrm>
            <a:off x="2895480" y="6400800"/>
            <a:ext cx="5335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R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icicio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R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4:04:01Z</dcterms:created>
  <dc:creator>Helen Zumaeta</dc:creator>
  <dc:description/>
  <dc:language>en-US</dc:language>
  <cp:lastModifiedBy>Helen Zumaeta</cp:lastModifiedBy>
  <dcterms:modified xsi:type="dcterms:W3CDTF">2015-10-05T14:42:30Z</dcterms:modified>
  <cp:revision>18</cp:revision>
  <dc:subject/>
  <dc:title>Me llamo _______      Clase 7IM La fecha es el 6 de enero del 2011</dc:title>
</cp:coreProperties>
</file>